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58C-2D1C-407B-B36A-EC567463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2F0-D09A-4884-B2C2-BA8BBE6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A2F-C67A-4C2E-9617-C6A554F0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D40-9655-4E63-9E30-2046394D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E5C-4053-465F-B7A8-E750F06A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B93-07A5-4467-8A66-F96BC480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B3E-9418-4EE4-8547-CAA3405F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64C-EDE8-4D50-A9A6-0CFB1A88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7B4-3054-4E73-8766-9867FB77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73A-EFA0-4B1D-ABA6-9031C9DE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E28-C68F-4686-8C70-38822CAD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A89-B36A-4607-9EE4-18AA6C61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B5D8-962D-40E8-9074-5425C9AB3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us.ucf.edu/shornik/acg5405/Documents/IBM_Demo_Lotus_Domino_Document_Manager-1-Jan05.exe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di-service.com/page5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di-service.com/page5.html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523880"/>
            <a:ext cx="4114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Electron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Busi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(E-Business) Syst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44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D99-77E8-42E1-AF2A-33B3E1D3D0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nline Transaction Entry (OLTE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ing business events at time and place the business event occ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input device used to enter data at source at time of business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ing Step 1 &amp; 2 of Automated Manu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Source document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data is retrieved from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documents are printed by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information in accumulated on tape or di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810-02C4-4B36-B31D-15BB7CC4B6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nline Transaction Entry (Batch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04760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099-8031-47BF-993D-5EF2156E08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4684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nline Real-time (OLRT)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2280" y="1752120"/>
            <a:ext cx="7759440" cy="44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ub-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event occurs and is reco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Mast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Reports and Support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periodically or on an as needed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queries to generate unique reports for key decisions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547-A003-4A30-9F70-659D31478C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Online real-time processi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975-08E1-4FC4-A192-EA7A41A464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ethods of Conducting E-Busines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ommunication of non-Standardized messages via communicati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human 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Docume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and storage of document images instead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Data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-to-computer exchange of business data in structured formats that allow direct processing of those electronic documents by the receiving comput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86D-816F-45DE-90D2-5AA588E2F0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lectronic Document Managemen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Storage and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Event Dat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documents to appropriate people and appropriate tim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the flow of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89F-417B-45C3-907D-4545535DC0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#9 AICPA Technology 2006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less Digital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of capturing, indexing, storing, retrieving, searching, and managing documents electronically including databas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management then brings structure and control to this information, allowing organizations to harness the intellectual capital contained in the underlying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467-9982-4B68-B497-4FF3BC41F4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ocument Mgmt Demo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otus Notes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015-E87D-4457-A380-12C123D19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lectronic Data Interchange (EDI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-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NSI 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and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9E0-E1D0-43BC-8D32-3CA755309E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29040" y="9140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DI Compon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000" y="0"/>
            <a:ext cx="6453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29400" y="2057400"/>
            <a:ext cx="25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n originating application prepares an electronic business document, such as a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(P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 At the destination organization, an application processes the busines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E37-3D86-41EA-81D5-9A20A26622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51818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ciate the possible changes to organizational processes that occur when e-business int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major approaches to transfer of electronic data during business events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e complexities that are introduced as electronic document management moves us steadily toward the paperles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complexities surrounding EDI that are introduced when linking two different organizations’ computer systems for joint business event data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ciate the challenges faced by organizations when they pursue direct business links with customers via the Internet or oth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ciate the business advantages gained through effective use of electronic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1981080"/>
            <a:ext cx="2971800" cy="3276720"/>
          </a:xfrm>
          <a:prstGeom prst="flowChartMagneticDisk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3048120"/>
            <a:ext cx="2819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-Busi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29040" y="151920"/>
            <a:ext cx="25146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DI Compon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000" y="0"/>
            <a:ext cx="6453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629400" y="1523880"/>
            <a:ext cx="2514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and 6. An application’s electronic business document must be translated from standard message  format to the structured 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that will be recognized by the receiving compu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AFE-1673-4984-9AB9-F7977F6608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83160" y="19080"/>
            <a:ext cx="53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Data Interchang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3E1-1EFC-468B-BAEA-DC4DA64B8B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I X12 Document Typ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DI Service Bu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AFD-E665-44EC-964E-BBF72464AA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29040" y="60912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DI Compon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000" y="0"/>
            <a:ext cx="6453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629400" y="1828800"/>
            <a:ext cx="2514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and 5. Establish a method to communicate electronic message. EDI service bureaus or the Internet are may be used, saving time and money over other metho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057-FD6F-49D0-9DF8-330C8BADE6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29040" y="685440"/>
            <a:ext cx="2514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DI Compon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000" y="0"/>
            <a:ext cx="6453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629400" y="2209680"/>
            <a:ext cx="2514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Rather than connect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ing partner, an organization can us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N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nect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it wants, leave its outgoing messages and, at the same time, pick up incoming messages from its “mailbox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82E-3CD9-4102-A5D0-DDE5A1ED4E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DI Process Chang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reduction in human interaction (Purchaser &amp; Salespeo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 of erroneou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al Tim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s organization to change processes as a result of instantaneous information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ocess Re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56E-9DD2-4B15-9C69-ADEEA2D9E4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trol Consider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e EDI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rather then Detect errors i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changes &amp; Security ov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vs. direct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 compromise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8C8-6070-436E-8635-011C520F14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trols Neede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ransactions are sent/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ransactions are recorded only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of data (sent/received/transl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e Se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 are not intercepted/al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86C-E377-43A3-92DC-AC09A08DFC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trol Pla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has built in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, Counts, Control #’s, Headers/Fo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ness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Au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my Data is 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bedded Audit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rts auditor to suspec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mmm, sounds like a use of Complex Event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7CB-E5CC-4BF7-9198-B452A76DB9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ternet Commerc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-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of Busines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and semi-struc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possible replacement of E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C9F-8970-4594-B303-901EEFCBD1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8400" y="164880"/>
            <a:ext cx="774720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lectronic Busines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45240" cy="395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ally exchanging information and linking business processes, individuals and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 completed more quickly, more efficiently, and more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paper trail (eventu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7A1-F8E5-44BB-B6EF-5D419A52C4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XM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sharing of data acros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EF5-21CF-49FF-A7AF-6FBECF7EA7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XML Examp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cipe name="bread" prep_time="5 mins" cook_time="3 hour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itle&gt;Basic bread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gredient amount="3" unit="cups"&gt;Flour&lt;/ingredi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gredient amount="0.25" unit="ounce"&gt;Yeast&lt;/ingredi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gredient amount="1.5" unit="cups“ state="warm"&gt;Water&lt;/ingredi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gredient amount="1" unit="teaspoon"&gt;Salt&lt;/ingredient&gt; &lt;instruc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ep&gt;Mix all ingredients together, and knead thoroughly.&lt;/ste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ep&gt;Cover with a cloth, and leave for one hour in warm room.&lt;/ste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ep&gt;Knead again, place in a tin, and then bake in the oven.&lt;/ste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instruc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recip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68F-0664-44C1-9948-949A63CE15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ypical Internet Conn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553080" cy="6086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29400" y="990720"/>
            <a:ext cx="251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ent/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2286000"/>
            <a:ext cx="251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nd 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connects to vendor in client-server configuration. Customer is Client (secure), Vendor is Server (receive and translate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9AD-A511-40DE-9BDF-F4DF294445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ypical Internet Conn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553080" cy="608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29400" y="990720"/>
            <a:ext cx="251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twork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2286000"/>
            <a:ext cx="2514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and 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to Internet through direct connection or service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44B-1977-4970-8F8E-88DD0C6DCE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ypical Internet Conn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553080" cy="608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29400" y="990720"/>
            <a:ext cx="251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ran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2286000"/>
            <a:ext cx="25146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and 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rance services provide limited assurance that web site reliable and sec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Trust; Veri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71F-AEA2-4926-96AE-AEB9CB476F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ypical Internet Conn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553080" cy="6086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629400" y="990720"/>
            <a:ext cx="251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rnet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228600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net (public network) E-business is open to all Revolutionizes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2C2-01C4-43DD-8D65-899F4D0728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-busines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electronic business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s back-office processes and/or front office processes of two or more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ion of sales staff, normally intermediary between two parties to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a good id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costs, bu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ing price effici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at which purchasing agents get access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AB0-2201-44FA-82E6-F803D8ECB9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cording Business Events (Accounting for Events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(E-busi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usiness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ly Increased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ly Increased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344-FDE6-41A4-8C05-30C404A5E4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odes of Accounting for Event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between event and recording that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on of multiple business events over a period of time for late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time the master data are up to date is right after the processing has been compl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oon as the next business event occurs, the master data are no longer up to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or no delay occurs business event and recording that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D25-739D-4FE0-9215-8DDAF64750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ethods of Accounti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d Manu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Transaction Entry (OL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al-Time (OL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3EB-F9D4-4FA0-A73D-3AEAE9DBA8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utomated Manual System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Sub-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Event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ed on Sourc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usiness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 Processed and Input by data-entry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Data Store (Sales, Purchas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tore =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Mas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E36-F385-4461-94FE-4A1EAE0150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5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utomated Equivalent to a Manual Syste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309680"/>
            <a:ext cx="8686800" cy="50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7CA-C458-45C5-9AFF-4B51C270AA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urt Westbrook</dc:creator>
  <dc:description/>
  <dc:language>en-US</dc:language>
  <cp:lastModifiedBy>College of Business Administration</cp:lastModifiedBy>
  <cp:lastPrinted>1998-07-30T21:51:59Z</cp:lastPrinted>
  <dcterms:modified xsi:type="dcterms:W3CDTF">2007-05-22T14:59:54Z</dcterms:modified>
  <cp:revision>38</cp:revision>
  <dc:subject/>
  <dc:title>Chapter 3</dc:title>
</cp:coreProperties>
</file>